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3B8-192B-42C0-95B6-D44BABEB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F10-ACFB-4D5F-89C2-B55E4995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EB7-DDBC-4851-8731-80E5FB8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B97-43E7-4E3A-A98F-51E35CE7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EF9-DD18-4688-8539-83AAEA0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957-2B7D-4558-BE4D-7BFF5CC6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FF0-46BA-44DF-B122-76F18950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D9B-0450-40D3-8118-F2463D1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A8A-68C9-49EB-A8C2-726C246B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01A-0D9E-41A7-AAC0-1D24A75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186-CAB4-4BB7-BA5B-A550F05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71B-9772-4C1F-B10B-79DF4870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BCA-220E-430E-81D5-85B804E25E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23920"/>
            <a:ext cx="5219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ن تعمّد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إذا تصلّب قلبي، تعال إليّ بعصف من الأناشيد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وإذا أعمت الشهوة عقلي بالوهم والغبا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تعال إليّ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يّها الساهر، بالبرق والرعود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عطاياكَ لا متناهية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دايَ صغيرتان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أسكبْ، فسوفَ تفنى الأجيال،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بقى في يديَّ فرا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20:20:54Z</dcterms:created>
  <dc:creator>Charbel Azar</dc:creator>
  <dc:description/>
  <dc:language>en-US</dc:language>
  <cp:lastModifiedBy>-</cp:lastModifiedBy>
  <dcterms:modified xsi:type="dcterms:W3CDTF">2003-01-06T16:33:39Z</dcterms:modified>
  <cp:revision>3</cp:revision>
  <dc:subject/>
  <dc:title>يا من تعمّدت في ماء الأردن عمّدنا بالروح القدس والنار</dc:title>
</cp:coreProperties>
</file>